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96FF-CAF2-49FB-A789-C837597E835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5999-ED88-4049-BAAD-7945A99CA6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091E-2FFC-4C20-AC49-92308BCB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3AC-26C1-4D16-AEB9-C67FFBE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7D2-7411-49F4-B466-F72E6A51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07F-91E3-4134-9441-4120A851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787-0621-4103-B5FC-43EB92DE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68360" y="-360"/>
            <a:ext cx="460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43C-9AFF-46B7-B7E4-E50FEB08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9DF-EDDD-479D-8CC9-8268676C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A73-3825-4B8A-8C1F-1A42E0D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AE4-B00F-4D11-819E-5655358D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443-A37B-460E-AD75-D5372DE8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80D-607D-47D6-8B4D-80BF44678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867-7C03-460B-B5B7-DAECCAA1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68360" y="-360"/>
            <a:ext cx="460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7" descr="标题幻灯片背景"/>
          <p:cNvPicPr/>
          <p:nvPr/>
        </p:nvPicPr>
        <p:blipFill>
          <a:blip r:embed="rId2"/>
          <a:stretch/>
        </p:blipFill>
        <p:spPr>
          <a:xfrm>
            <a:off x="-36360" y="-36360"/>
            <a:ext cx="9216720" cy="69307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C410-1CE3-4C08-A6E6-12AD2A34A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5640" y="2492280"/>
            <a:ext cx="4103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喜洋洋婚庆公司简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643520" y="1000080"/>
            <a:ext cx="64908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粗倩简体"/>
              </a:rPr>
              <a:t>喜洋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方正粗倩简体"/>
              </a:rPr>
              <a:t>让你的婚礼喜洋洋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9" name="Picture 4" descr="气球"/>
          <p:cNvPicPr/>
          <p:nvPr/>
        </p:nvPicPr>
        <p:blipFill>
          <a:blip r:embed="rId1"/>
          <a:stretch/>
        </p:blipFill>
        <p:spPr>
          <a:xfrm>
            <a:off x="539640" y="2349360"/>
            <a:ext cx="1486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90" name="心形 4"/>
          <p:cNvGrpSpPr/>
          <p:nvPr/>
        </p:nvGrpSpPr>
        <p:grpSpPr>
          <a:xfrm>
            <a:off x="3219480" y="4438800"/>
            <a:ext cx="1584360" cy="1492200"/>
            <a:chOff x="3219480" y="4438800"/>
            <a:chExt cx="1584360" cy="1492200"/>
          </a:xfrm>
        </p:grpSpPr>
        <p:pic>
          <p:nvPicPr>
            <p:cNvPr id="91" name="心形 4" descr=""/>
            <p:cNvPicPr/>
            <p:nvPr/>
          </p:nvPicPr>
          <p:blipFill>
            <a:blip r:embed="rId2"/>
            <a:stretch/>
          </p:blipFill>
          <p:spPr>
            <a:xfrm>
              <a:off x="3219480" y="4438800"/>
              <a:ext cx="15843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676680" y="4925880"/>
              <a:ext cx="666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心形 13"/>
          <p:cNvGrpSpPr/>
          <p:nvPr/>
        </p:nvGrpSpPr>
        <p:grpSpPr>
          <a:xfrm>
            <a:off x="3895560" y="4438800"/>
            <a:ext cx="1584360" cy="1492200"/>
            <a:chOff x="3895560" y="4438800"/>
            <a:chExt cx="1584360" cy="1492200"/>
          </a:xfrm>
        </p:grpSpPr>
        <p:pic>
          <p:nvPicPr>
            <p:cNvPr id="94" name="心形 13" descr=""/>
            <p:cNvPicPr/>
            <p:nvPr/>
          </p:nvPicPr>
          <p:blipFill>
            <a:blip r:embed="rId3"/>
            <a:stretch/>
          </p:blipFill>
          <p:spPr>
            <a:xfrm>
              <a:off x="3895560" y="4438800"/>
              <a:ext cx="158436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354560" y="4925880"/>
              <a:ext cx="6667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关于洋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洋洋婚庆公司成立于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015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年，其名与中国传统对婚礼的理解遥相呼应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喜庆、吉祥 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洋洋婚庆公司成立至今，积累了大量关于婚礼策划、个性婚礼的经验，特别是在西式婚礼、中式婚礼方面有独特的理解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你的婚礼，洋洋婚庆公司都会用心为你营造浪漫的氛围，共有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名员工为您的婚礼在努力付出，并与您一共心跳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业务范围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个性婚礼策划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喜帖、糖果盒的订制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婚礼现场布置、酒席订制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婚礼现场主持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提供婚礼的全程录像，并制作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提供婚礼当天的花车、新娘妆及婚礼所需的各种道具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Wingdings" charset="2"/>
              <a:buChar char="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婚礼效果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欢迎选择洋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4T01:39:39Z</dcterms:created>
  <dc:creator>赵莉</dc:creator>
  <dc:description/>
  <dc:language>en-US</dc:language>
  <cp:lastModifiedBy>LDQ</cp:lastModifiedBy>
  <dcterms:modified xsi:type="dcterms:W3CDTF">2018-03-01T07:38:15Z</dcterms:modified>
  <cp:revision>18</cp:revision>
  <dc:subject/>
  <dc:title>幻灯片 1</dc:title>
</cp:coreProperties>
</file>